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C707-D223-44D8-9080-0C7AC080E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17AD-343F-425E-BE1E-B95E9415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A2DC-A4AA-464A-B35D-6C3B880F2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51C2-420E-4070-AD88-DA908CB73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8EDD6-208A-4944-A076-9AD853B19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F829C-2D48-4F3C-A44B-853E03E33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ED4AD-CD09-4B1E-BE47-E37189CA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86D37-0CAD-433C-AEFA-757B24747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E272A-0EFD-4C38-8964-CEC873EB6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34748-F8A7-4F6A-BAE0-B7283B8AE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342AA-C9FA-4D2C-8029-6C869E4B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C06A-C3C7-417E-A2C8-53EE84019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D1EFC-1113-4B18-859B-307020AB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6B41F-632F-4AAF-83EE-2E37C069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83092-0CDE-438A-BF99-C373BBCF4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08314-51B1-4D2C-A33D-010660A74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8CF83-68AB-442C-AA69-722276F61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9A9EC-DA31-40CE-855D-5D2E7DA8D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D883A-78CD-44AA-8576-BF925EE7D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46DAC-E913-4BAF-A939-275CDB90A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6F0E1-2825-4CA1-9048-1F1E03150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15697-DD0F-4413-BCED-BD6F68C91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FEA1-64B2-4A68-894B-C62F76EFC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8DCF4-52F1-49DC-A9F1-29B17809E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FB712-D4E8-49B0-849B-4F21A815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C6E03-0074-49CB-9438-0D6CC351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BA54E-1D4A-484D-AD4C-2EE2CFED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5AA03-9846-4084-A9CF-BFE1AC8B8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66074-CC8C-4708-8875-699D3D96D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FA293-E03E-40F5-BEFC-57F99DF39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065C0-C718-4CFC-B63C-2F5DB10C3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804FB-4537-45DB-BFAE-903AE9AD6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3B7E1-96C8-4B8D-BEBE-AF9A3B4C0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37F9-24A2-403E-8868-DFF5295F0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4E3D2-A0A6-42D6-A5CF-5B98776E3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DF120-0DF6-4B81-B3B6-B28C35A8C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CFD1C-5EDE-4D47-A84C-3F5DE9000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36AE5-0F6F-4ABF-90E8-80E95DC0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D2E7C-1C3E-4E83-B0BC-765040EE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4F6B1-6B1D-4A8C-8A1F-007668CC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983C7-D0D1-4FC3-97BA-808988704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0A20F-CE22-45CF-8F6C-CB814FFAE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F4775-2F16-4A6F-8FB0-0D786DB0C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034A4-99B2-4476-8A99-52F7EE7E3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66F3-06DE-4CB5-A731-3E82034A1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986FE-6E9A-435D-B327-CD50BAEF9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C93AC-5DF9-4595-8E09-C1D9BEBC4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3EEC2-B07C-4BFE-AC7A-F584A2DFA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6F634-C215-4F84-B02E-AF16ECDEB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8A507-B91F-4243-8AB2-AB7BC6310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F5981-4AEF-4477-B809-F7D51962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BC2DD-E887-40FF-9C67-4291618B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6CAEB-9597-4F22-80C6-EF971212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F9357-EE31-4CCF-B0A6-7972ED85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9FD75-056C-44E2-9457-6EED0D71E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D2BE-6249-49C2-9FD4-401ACA1A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D0917-52A3-4F72-BB92-49A1FC048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0905-CBDC-465A-A791-532DCE85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E0E6-58B6-4A23-8727-BD91012F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D481-29C9-4E68-828B-C2132B5F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0F172-4577-443A-BBB2-CF58382BC8F9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6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8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29942-B16A-4D21-B277-2BD3C13D8A10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3E884-80F1-4809-BDE5-7C43E99A67DA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427BE-AAB6-4C4C-8ACF-52441687A053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29DD9-3C33-4587-9B4B-9083DE3E4455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08280"/>
            <a:ext cx="8507520" cy="1441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Franklin Gothic Book"/>
              </a:rPr>
              <a:t>Муниципальное бюджетное учреждение дополнительного образования</a:t>
            </a:r>
            <a:br>
              <a:rPr sz="2000"/>
            </a:br>
            <a:r>
              <a:rPr b="1" lang="ru-RU" sz="2000" spc="-1" strike="noStrike">
                <a:solidFill>
                  <a:srgbClr val="ff9900"/>
                </a:solidFill>
                <a:latin typeface="Franklin Gothic Book"/>
              </a:rPr>
              <a:t>«Детская юношеская спортивная школа муниципального района Благовещенский район Республики Башкортостан</a:t>
            </a:r>
            <a:r>
              <a:rPr b="1" lang="ru-RU" sz="2600" spc="-1" strike="noStrike">
                <a:solidFill>
                  <a:srgbClr val="ff9900"/>
                </a:solidFill>
                <a:latin typeface="Franklin Gothic Book"/>
              </a:rPr>
              <a:t>»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ru-RU" sz="4600" spc="-1" strike="noStrike">
                <a:solidFill>
                  <a:srgbClr val="ff9900"/>
                </a:solidFill>
                <a:latin typeface="Franklin Gothic Book"/>
              </a:rPr>
              <a:t>Спортивно-патриотическая игра </a:t>
            </a:r>
            <a:br>
              <a:rPr sz="4600"/>
            </a:br>
            <a:r>
              <a:rPr b="1" lang="ru-RU" sz="5500" spc="-1" strike="noStrike">
                <a:solidFill>
                  <a:srgbClr val="ff9900"/>
                </a:solidFill>
                <a:latin typeface="Franklin Gothic Book"/>
              </a:rPr>
              <a:t>«Будь готов!»</a:t>
            </a:r>
            <a:br>
              <a:rPr sz="5500"/>
            </a:br>
            <a:br>
              <a:rPr sz="4200"/>
            </a:br>
            <a:br>
              <a:rPr sz="4200"/>
            </a:br>
            <a:br>
              <a:rPr sz="4200"/>
            </a:br>
            <a:r>
              <a:rPr b="1" lang="ru-RU" sz="2000" spc="-1" strike="noStrike">
                <a:solidFill>
                  <a:srgbClr val="ff9900"/>
                </a:solidFill>
                <a:latin typeface="Franklin Gothic Book"/>
              </a:rPr>
              <a:t>Разработала: Соловейкина Галина Витальевна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12" name="Picture 3" descr="C:\Users\User\Desktop\1368030928_vov.png"/>
          <p:cNvPicPr/>
          <p:nvPr/>
        </p:nvPicPr>
        <p:blipFill>
          <a:blip r:embed="rId1"/>
          <a:stretch/>
        </p:blipFill>
        <p:spPr>
          <a:xfrm>
            <a:off x="6877080" y="3860640"/>
            <a:ext cx="2089080" cy="172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C:\Users\User\Desktop\100437397_Lenta__2_.png"/>
          <p:cNvPicPr/>
          <p:nvPr/>
        </p:nvPicPr>
        <p:blipFill>
          <a:blip r:embed="rId1"/>
          <a:stretch/>
        </p:blipFill>
        <p:spPr>
          <a:xfrm>
            <a:off x="250920" y="4365720"/>
            <a:ext cx="8459640" cy="15667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C:\Users\User\Desktop\1368030928_vov.png"/>
          <p:cNvPicPr/>
          <p:nvPr/>
        </p:nvPicPr>
        <p:blipFill>
          <a:blip r:embed="rId2"/>
          <a:stretch/>
        </p:blipFill>
        <p:spPr>
          <a:xfrm>
            <a:off x="2987640" y="3716280"/>
            <a:ext cx="3159000" cy="26053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250920" y="583200"/>
            <a:ext cx="8569080" cy="27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ff9933"/>
                </a:solidFill>
                <a:latin typeface="Arial"/>
              </a:rPr>
              <a:t>Стойкий солдат не знает преград!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9900"/>
                </a:solidFill>
                <a:latin typeface="Arial"/>
              </a:rPr>
              <a:t>ЭТАП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0" lang="en-US" sz="6400" spc="-1" strike="noStrike">
                <a:solidFill>
                  <a:srgbClr val="ff9900"/>
                </a:solidFill>
                <a:latin typeface="Arial"/>
              </a:rPr>
              <a:t>Минное поле</a:t>
            </a:r>
            <a:endParaRPr b="0" lang="en-US" sz="6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C:\Users\User\Desktop\100437397_Lenta__2_.png"/>
          <p:cNvPicPr/>
          <p:nvPr/>
        </p:nvPicPr>
        <p:blipFill>
          <a:blip r:embed="rId1"/>
          <a:stretch/>
        </p:blipFill>
        <p:spPr>
          <a:xfrm>
            <a:off x="0" y="4365720"/>
            <a:ext cx="9144000" cy="15667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" descr="C:\Users\User\Desktop\1368030928_vov.png"/>
          <p:cNvPicPr/>
          <p:nvPr/>
        </p:nvPicPr>
        <p:blipFill>
          <a:blip r:embed="rId2"/>
          <a:stretch/>
        </p:blipFill>
        <p:spPr>
          <a:xfrm>
            <a:off x="3059280" y="3645000"/>
            <a:ext cx="3159000" cy="26049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0" y="621360"/>
            <a:ext cx="9144000" cy="26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i="1" lang="en-US" sz="3500" spc="-1" strike="noStrike">
                <a:solidFill>
                  <a:srgbClr val="ff9933"/>
                </a:solidFill>
                <a:latin typeface="Arial"/>
              </a:rPr>
              <a:t>Кто храбр, да стоек, десятерых стоит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9900"/>
                </a:solidFill>
                <a:latin typeface="Arial"/>
              </a:rPr>
              <a:t>ЭТАП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0" lang="en-US" sz="6400" spc="-1" strike="noStrike">
                <a:solidFill>
                  <a:srgbClr val="ff9900"/>
                </a:solidFill>
                <a:latin typeface="Arial"/>
              </a:rPr>
              <a:t>Ближний бой</a:t>
            </a:r>
            <a:endParaRPr b="0" lang="en-US" sz="6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C:\Users\User\Desktop\100437397_Lenta__2_.png"/>
          <p:cNvPicPr/>
          <p:nvPr/>
        </p:nvPicPr>
        <p:blipFill>
          <a:blip r:embed="rId1"/>
          <a:stretch/>
        </p:blipFill>
        <p:spPr>
          <a:xfrm>
            <a:off x="250920" y="4383000"/>
            <a:ext cx="8459640" cy="15670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" descr="C:\Users\User\Desktop\1368030928_vov.png"/>
          <p:cNvPicPr/>
          <p:nvPr/>
        </p:nvPicPr>
        <p:blipFill>
          <a:blip r:embed="rId2"/>
          <a:stretch/>
        </p:blipFill>
        <p:spPr>
          <a:xfrm>
            <a:off x="2987640" y="3716280"/>
            <a:ext cx="3159000" cy="26053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250920" y="585000"/>
            <a:ext cx="8569080" cy="27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9933"/>
                </a:solidFill>
                <a:latin typeface="Arial"/>
              </a:rPr>
              <a:t>Умелый боец – везде молодец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9900"/>
                </a:solidFill>
                <a:latin typeface="Arial"/>
              </a:rPr>
              <a:t>ЭТАП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0" lang="en-US" sz="6000" spc="-1" strike="noStrike">
                <a:solidFill>
                  <a:srgbClr val="ff9900"/>
                </a:solidFill>
                <a:latin typeface="Arial"/>
              </a:rPr>
              <a:t>Полоса препятствий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C:\Users\User\Desktop\100437397_Lenta__2_.png"/>
          <p:cNvPicPr/>
          <p:nvPr/>
        </p:nvPicPr>
        <p:blipFill>
          <a:blip r:embed="rId1"/>
          <a:stretch/>
        </p:blipFill>
        <p:spPr>
          <a:xfrm>
            <a:off x="0" y="4383000"/>
            <a:ext cx="8964720" cy="15670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C:\Users\User\Desktop\1368030928_vov.png"/>
          <p:cNvPicPr/>
          <p:nvPr/>
        </p:nvPicPr>
        <p:blipFill>
          <a:blip r:embed="rId2"/>
          <a:stretch/>
        </p:blipFill>
        <p:spPr>
          <a:xfrm>
            <a:off x="2987640" y="3716280"/>
            <a:ext cx="3159000" cy="26053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250920" y="632160"/>
            <a:ext cx="85690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9933"/>
                </a:solidFill>
                <a:latin typeface="Arial"/>
              </a:rPr>
              <a:t>   </a:t>
            </a:r>
            <a:r>
              <a:rPr b="0" i="1" lang="en-US" sz="4200" spc="-1" strike="noStrike">
                <a:solidFill>
                  <a:srgbClr val="ff9933"/>
                </a:solidFill>
                <a:latin typeface="Arial"/>
              </a:rPr>
              <a:t>Знамя несть – велика честь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9900"/>
                </a:solidFill>
                <a:latin typeface="Arial"/>
              </a:rPr>
              <a:t>ЭТАП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0" lang="en-US" sz="6000" spc="-1" strike="noStrike">
                <a:solidFill>
                  <a:srgbClr val="ff9900"/>
                </a:solidFill>
                <a:latin typeface="Arial"/>
              </a:rPr>
              <a:t>Водружение знамени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C:\Users\User\Desktop\100437397_Lenta__2_.png"/>
          <p:cNvPicPr/>
          <p:nvPr/>
        </p:nvPicPr>
        <p:blipFill>
          <a:blip r:embed="rId1"/>
          <a:stretch/>
        </p:blipFill>
        <p:spPr>
          <a:xfrm>
            <a:off x="0" y="3284640"/>
            <a:ext cx="9144000" cy="15667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C:\Users\User\Desktop\1368030928_vov.png"/>
          <p:cNvPicPr/>
          <p:nvPr/>
        </p:nvPicPr>
        <p:blipFill>
          <a:blip r:embed="rId2"/>
          <a:stretch/>
        </p:blipFill>
        <p:spPr>
          <a:xfrm>
            <a:off x="2987640" y="2637000"/>
            <a:ext cx="3159000" cy="26049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250920" y="970560"/>
            <a:ext cx="85690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9933"/>
                </a:solidFill>
                <a:latin typeface="Arial"/>
              </a:rPr>
              <a:t>Худой мир лучше доброй войны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5" descr="38881_800_600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Вечная память погибшим за Родину</a:t>
            </a:r>
            <a:r>
              <a:rPr b="1" lang="en-US" sz="3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C:\Users\User\Desktop\100437397_Lenta__2_.png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14400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C:\Users\User\Desktop\1368030928_vov.png"/>
          <p:cNvPicPr/>
          <p:nvPr/>
        </p:nvPicPr>
        <p:blipFill>
          <a:blip r:embed="rId2"/>
          <a:stretch/>
        </p:blipFill>
        <p:spPr>
          <a:xfrm>
            <a:off x="3132000" y="260280"/>
            <a:ext cx="3159360" cy="26053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3310920"/>
            <a:ext cx="9144000" cy="18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9900"/>
                </a:solidFill>
                <a:latin typeface="Arial"/>
              </a:rPr>
              <a:t>Спортивно-патриотическая</a:t>
            </a:r>
            <a:r>
              <a:rPr b="0" lang="en-US" sz="5000" spc="-1" strike="noStrike">
                <a:solidFill>
                  <a:srgbClr val="ff9900"/>
                </a:solidFill>
                <a:latin typeface="Arial"/>
              </a:rPr>
              <a:t> игра           </a:t>
            </a:r>
            <a:r>
              <a:rPr b="0" lang="en-US" sz="6700" spc="-1" strike="noStrike">
                <a:solidFill>
                  <a:srgbClr val="ff9900"/>
                </a:solidFill>
                <a:latin typeface="Arial"/>
              </a:rPr>
              <a:t>«Будь готов!»</a:t>
            </a:r>
            <a:endParaRPr b="0" lang="en-US" sz="6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3" descr="C:\Users\User\Desktop\1368030928_vov.png"/>
          <p:cNvPicPr/>
          <p:nvPr/>
        </p:nvPicPr>
        <p:blipFill>
          <a:blip r:embed="rId3"/>
          <a:stretch/>
        </p:blipFill>
        <p:spPr>
          <a:xfrm>
            <a:off x="3132000" y="260280"/>
            <a:ext cx="3159360" cy="26053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C:\Users\User\Desktop\1368030928_vov.png"/>
          <p:cNvPicPr/>
          <p:nvPr/>
        </p:nvPicPr>
        <p:blipFill>
          <a:blip r:embed="rId4"/>
          <a:stretch/>
        </p:blipFill>
        <p:spPr>
          <a:xfrm>
            <a:off x="3132000" y="260280"/>
            <a:ext cx="3159360" cy="26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C:\Users\User\Desktop\100437397_Lenta__2_.png"/>
          <p:cNvPicPr/>
          <p:nvPr/>
        </p:nvPicPr>
        <p:blipFill>
          <a:blip r:embed="rId1"/>
          <a:stretch/>
        </p:blipFill>
        <p:spPr>
          <a:xfrm>
            <a:off x="0" y="4437000"/>
            <a:ext cx="8964720" cy="15670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C:\Users\User\Desktop\1368030928_vov.png"/>
          <p:cNvPicPr/>
          <p:nvPr/>
        </p:nvPicPr>
        <p:blipFill>
          <a:blip r:embed="rId2"/>
          <a:stretch/>
        </p:blipFill>
        <p:spPr>
          <a:xfrm>
            <a:off x="3059280" y="3716280"/>
            <a:ext cx="3159000" cy="26053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468360" y="604080"/>
            <a:ext cx="835164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ff9933"/>
                </a:solidFill>
                <a:latin typeface="Arial"/>
              </a:rPr>
              <a:t>Живя в мире, не забывай о войне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9900"/>
                </a:solidFill>
                <a:latin typeface="Arial"/>
              </a:rPr>
              <a:t>ЭТАП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0" lang="en-US" sz="6000" spc="-1" strike="noStrike">
                <a:solidFill>
                  <a:srgbClr val="ff9900"/>
                </a:solidFill>
                <a:latin typeface="Arial"/>
              </a:rPr>
              <a:t>Строевая подготовк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C:\Users\User\Desktop\100437397_Lenta__2_.png"/>
          <p:cNvPicPr/>
          <p:nvPr/>
        </p:nvPicPr>
        <p:blipFill>
          <a:blip r:embed="rId1"/>
          <a:stretch/>
        </p:blipFill>
        <p:spPr>
          <a:xfrm>
            <a:off x="324000" y="4365720"/>
            <a:ext cx="8459640" cy="15667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C:\Users\User\Desktop\1368030928_vov.png"/>
          <p:cNvPicPr/>
          <p:nvPr/>
        </p:nvPicPr>
        <p:blipFill>
          <a:blip r:embed="rId2"/>
          <a:stretch/>
        </p:blipFill>
        <p:spPr>
          <a:xfrm>
            <a:off x="3059280" y="3716280"/>
            <a:ext cx="3159000" cy="26053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250920" y="581760"/>
            <a:ext cx="8569080" cy="27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9933"/>
                </a:solidFill>
                <a:latin typeface="Arial"/>
              </a:rPr>
              <a:t>Честь солдата береги свято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9900"/>
                </a:solidFill>
                <a:latin typeface="Arial"/>
              </a:rPr>
              <a:t>ЭТАП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0" lang="en-US" sz="6000" spc="-1" strike="noStrike">
                <a:solidFill>
                  <a:srgbClr val="ff9900"/>
                </a:solidFill>
                <a:latin typeface="Arial"/>
              </a:rPr>
              <a:t>Секретное донесение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C:\Users\User\Desktop\100437397_Lenta__2_.png"/>
          <p:cNvPicPr/>
          <p:nvPr/>
        </p:nvPicPr>
        <p:blipFill>
          <a:blip r:embed="rId1"/>
          <a:stretch/>
        </p:blipFill>
        <p:spPr>
          <a:xfrm>
            <a:off x="0" y="4437000"/>
            <a:ext cx="9144000" cy="15670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C:\Users\User\Desktop\1368030928_vov.png"/>
          <p:cNvPicPr/>
          <p:nvPr/>
        </p:nvPicPr>
        <p:blipFill>
          <a:blip r:embed="rId2"/>
          <a:stretch/>
        </p:blipFill>
        <p:spPr>
          <a:xfrm>
            <a:off x="3059280" y="3716280"/>
            <a:ext cx="3159000" cy="26053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250920" y="567720"/>
            <a:ext cx="8569080" cy="27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9933"/>
                </a:solidFill>
                <a:latin typeface="Arial"/>
              </a:rPr>
              <a:t>Храбрость – сестра победы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9900"/>
                </a:solidFill>
                <a:latin typeface="Arial"/>
              </a:rPr>
              <a:t>ЭТАП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0" lang="en-US" sz="6200" spc="-1" strike="noStrike">
                <a:solidFill>
                  <a:srgbClr val="ff9900"/>
                </a:solidFill>
                <a:latin typeface="Arial"/>
              </a:rPr>
              <a:t>Метание гранат</a:t>
            </a: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C:\Users\User\Desktop\100437397_Lenta__2_.png"/>
          <p:cNvPicPr/>
          <p:nvPr/>
        </p:nvPicPr>
        <p:blipFill>
          <a:blip r:embed="rId1"/>
          <a:stretch/>
        </p:blipFill>
        <p:spPr>
          <a:xfrm>
            <a:off x="324000" y="4437000"/>
            <a:ext cx="8459640" cy="15670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C:\Users\User\Desktop\1368030928_vov.png"/>
          <p:cNvPicPr/>
          <p:nvPr/>
        </p:nvPicPr>
        <p:blipFill>
          <a:blip r:embed="rId2"/>
          <a:stretch/>
        </p:blipFill>
        <p:spPr>
          <a:xfrm>
            <a:off x="3059280" y="3716280"/>
            <a:ext cx="3159000" cy="26053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250920" y="613800"/>
            <a:ext cx="856908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ff9933"/>
                </a:solidFill>
                <a:latin typeface="Arial"/>
              </a:rPr>
              <a:t>Солдатское дело – воевать умело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9900"/>
                </a:solidFill>
                <a:latin typeface="Arial"/>
              </a:rPr>
              <a:t>ЭТАП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0" lang="en-US" sz="5800" spc="-1" strike="noStrike">
                <a:solidFill>
                  <a:srgbClr val="ff9900"/>
                </a:solidFill>
                <a:latin typeface="Arial"/>
              </a:rPr>
              <a:t>Доставка боеприпасов</a:t>
            </a:r>
            <a:endParaRPr b="0" lang="en-US" sz="5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C:\Users\User\Desktop\100437397_Lenta__2_.png"/>
          <p:cNvPicPr/>
          <p:nvPr/>
        </p:nvPicPr>
        <p:blipFill>
          <a:blip r:embed="rId1"/>
          <a:stretch/>
        </p:blipFill>
        <p:spPr>
          <a:xfrm>
            <a:off x="324000" y="4437000"/>
            <a:ext cx="8459640" cy="15670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C:\Users\User\Desktop\1368030928_vov.png"/>
          <p:cNvPicPr/>
          <p:nvPr/>
        </p:nvPicPr>
        <p:blipFill>
          <a:blip r:embed="rId2"/>
          <a:stretch/>
        </p:blipFill>
        <p:spPr>
          <a:xfrm>
            <a:off x="3059280" y="3776760"/>
            <a:ext cx="3159000" cy="26049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0" y="583560"/>
            <a:ext cx="9144000" cy="27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9933"/>
                </a:solidFill>
                <a:latin typeface="Arial"/>
              </a:rPr>
              <a:t>Русский солдат смекалкой богат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9900"/>
                </a:solidFill>
                <a:latin typeface="Arial"/>
              </a:rPr>
              <a:t>ЭТАП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0" lang="en-US" sz="5300" spc="-1" strike="noStrike">
                <a:solidFill>
                  <a:srgbClr val="ff9900"/>
                </a:solidFill>
                <a:latin typeface="Arial"/>
              </a:rPr>
              <a:t>Перехваченная шифровка</a:t>
            </a:r>
            <a:endParaRPr b="0" lang="en-US" sz="5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6T16:44:36Z</dcterms:created>
  <dc:creator>User</dc:creator>
  <dc:description/>
  <dc:language>en-US</dc:language>
  <cp:lastModifiedBy>crazy</cp:lastModifiedBy>
  <dcterms:modified xsi:type="dcterms:W3CDTF">2022-03-21T12:03:50Z</dcterms:modified>
  <cp:revision>26</cp:revision>
  <dc:subject/>
  <dc:title>Слайд 1</dc:title>
</cp:coreProperties>
</file>